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B55-0377-48E9-A5DE-2E74DF0F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EFA-5548-41C4-AE3D-65E10DC4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AE4-D101-44E9-8BFD-EDD903A2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FAB-38E6-40A1-B02F-3BF8EBDF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83DFA-3750-4476-9ABD-47B3661B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C1867-D56E-460E-A853-77AFF82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C465C-2EF4-4646-88AD-653D3A4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3F54C-A1E3-4DB5-AE1C-012C9D6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99D0-0963-437E-ADF5-6BB4AFBD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B9E74-0E18-4E16-BF50-B0E58688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035A7-BC72-4354-AF54-202E88D3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A3C-9902-4B57-BC21-644CB62E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CF717-D5AC-422A-93FA-D860006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CD9C0-AC8D-43FF-930C-09B09BFA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8FFC1-E239-48AA-AB5A-965EF036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AA868-CB29-4FD2-90AC-2237E71A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3C3A0-BE02-4C91-976B-59586177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327-3FE3-4485-AB96-2E47C78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E57-38CD-4DF0-9735-2746134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A03-772C-477A-AA49-869B62E6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F49-5E20-46A5-AF0D-1433AF52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ADF-2AF0-45DC-B4A7-1BB8C15F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30D-4736-4DE2-ACCD-C4811204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04C-2F7D-41DB-994C-2BEEA61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736E-3E13-4679-88AC-F48CB27F4EE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BED9-8BE7-41E9-ADCB-D8C945D7395A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5335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om Handy zum vernetzten Us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usrüstung der Klasse 2004/2005 Stand Oktober 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2898720"/>
          <a:ext cx="472428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98720"/>
                    <a:ext cx="47242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ilung auf Österreichische Net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86200" y="2806560"/>
          <a:ext cx="5089680" cy="405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06560"/>
                    <a:ext cx="50896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0" y="2209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eilung auf Herste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können unsere Handy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905120"/>
          <a:ext cx="5029200" cy="48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5120"/>
                    <a:ext cx="502920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91120" y="1612800"/>
          <a:ext cx="8773920" cy="524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1612800"/>
                    <a:ext cx="87739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6:37:55Z</dcterms:created>
  <dc:creator>tkohlbacher</dc:creator>
  <dc:description/>
  <dc:language>en-US</dc:language>
  <cp:lastModifiedBy>Bischöfliches Gymnasium</cp:lastModifiedBy>
  <dcterms:modified xsi:type="dcterms:W3CDTF">2005-06-12T08:51:56Z</dcterms:modified>
  <cp:revision>12</cp:revision>
  <dc:subject/>
  <dc:title>Vom Handy zum vernetzten User</dc:title>
</cp:coreProperties>
</file>